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C7E45-AFB4-48BE-9E46-3E846172F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29A7-223E-4B8B-AC1D-FD4E1FB1C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2F64A-17A9-44A2-86F4-A88C80ECF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C5C65-1817-49D2-93D7-F0DF7B9DC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846E1-D7D2-40C3-9800-9DA9B960E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30EE9-1BE1-439A-92A8-0B478B0C5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BB08A-69AC-4C96-A08A-3F3B627E9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72254-B622-48B6-9ADF-34B9BA974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DF53E-18B1-4103-A07E-CCAB390CA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C0DF7-15D3-4A3B-86F3-858E1E9CD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615D5-F75E-4831-AA1D-B51019530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D375B-C2A7-4C02-8962-F53FAC27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CFAB9-E563-412D-B0FA-1602079E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D1423-89B0-4014-9294-B15C39D14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47115-B97A-484F-B989-DDF05D895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DA698-A0DC-4E42-8D03-0E719827A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C5DE6-ABBC-4767-97A9-0E55CE78D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9954058-DC2B-4775-8C09-70F8AC7FD4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9A0376-933F-4FB3-BCE8-6F6B009E0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5BFA0E-A0E5-4FBB-8887-ACDC7BE86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4B31B2-8D04-47AB-AC3B-3AC299F6A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FF069F-6D58-4932-824B-8B6632474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2D7B8-CE23-4B3D-ABAF-C87BAD82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AEB4F3-7A2F-49A3-A76B-829DDB6BE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8935DF-5517-469D-9B56-6357675CE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3865E7-E2E0-4051-B8D4-ACAC5F21C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B5F54E-15BF-4C47-A69E-98EA31543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655E18-F010-4817-9001-CF55956B9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983E42-E8F5-4AAC-B6A5-9CB42213C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54BFD8-51D0-430B-A802-C752179584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1F487-E4CC-4CE1-B597-0400EA2B70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368AE-07F0-452E-895A-E671321AE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611A4-1887-4C5A-88DD-04F2C3D89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F3BB-4D82-43CB-84C0-F1D8E94BC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F61C3-215F-48AD-BC27-93C13F985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211D9-BE67-4703-866C-BC4361A4D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9C136-8E1F-4086-AE6E-81F549A48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BFA1C-C915-4C7A-9286-1B29F223D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329E9-7785-4C2F-9857-D683F6363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9728E-D6E5-4881-8968-8EC93D3A4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E720C-1FEA-4F60-ACF4-7F17E42BE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008F99-0271-4A38-923C-381D0FAF2E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D9AFF-6426-463F-988C-126E8EA58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65D635-E60F-4C18-8C40-472253706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9FC25-5FD7-4653-B904-00477450E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9C210F-9B0C-429F-BEBB-24F5B0F7D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C58460-55D8-4971-A841-AC86979D8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F0A6DB-561E-42C2-BDEE-7977C7A28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FD5F63-9989-4345-8640-7A7465277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A16495-1457-4061-BBB4-84672A301C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F9D6B2-76C1-4C0C-B403-DFB58EF3A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630410-5455-4799-BE16-95F85E89D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78FB67-B816-4645-A1B9-36F6BB5D7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DA094A-FE53-44BF-97EE-8FC34E0B7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5DE46F6-D5FA-44B6-9B1B-46859F161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85AA7-DE98-4203-B836-4B629C22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737775-EFB7-4DBE-A9CF-ABC5AC1C6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B0E8870-DDBD-42D1-B7E9-C519AB7FC3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C0D464-D68C-4653-9213-FE6037C8A0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E309413-EB20-4EEA-8E32-44E4F9053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4730B3F-C20F-48D1-A69B-AB738073D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BC9269-9049-4408-9A4F-047529450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A18D70-D7B2-468D-B22E-93633FDAC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94371F-3365-407E-852C-875C3E230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E31F38-222F-4FF7-A1B6-E78477D74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5108E4-8F41-4B9A-9EE9-EAED3EE08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D925-E6BD-4AD1-9DE7-DE41BEDE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06672F-EB33-42F8-8482-4E1477198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5403B59-0696-490C-B5DD-530F803533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DBB1A9E-3891-4BE3-A2F7-C40FC35AA5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85D2A30-DA67-4E6C-8F8E-C18151AC59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578D0E-0000-4BB5-BBA5-74E314D5C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57DC79-5B42-420A-98C7-69DBBA747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E132FCB-C759-45C0-8E12-52BAAF8CF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D00D98E-5E55-4EF1-B563-33085EAB8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BF279B-4088-4804-9A23-19B0CE607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0C6B1E-D0F1-4A10-8DFB-44DF3FFAA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A3A8-47C6-497D-ACF0-35A44F9D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88349C-0F26-4784-AC84-95B0ED13E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08624B-2034-4815-B120-FEFED48F2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714103-AEB5-45DA-B74D-19520C765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E465EA7-D229-4ADC-896B-342E2E70D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9D3D86-8F50-41A2-8177-D216D10616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FDB7-FC73-455A-A383-5EFDFEC01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CDC9-ECF6-46B0-AA60-B75E39C69695}"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ângulo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tângulo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tângulo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tângulo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Conector reto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Conector reto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Conector reto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Conector reto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Conector reto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e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Elipse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Elipse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Elipse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Elipse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651D-B38E-4337-ABFC-007FF0BDB4B9}"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4C37-807A-4CE8-AFFF-5AF97B5EE853}"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tângulo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tângulo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tângulo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tângulo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Conector reto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Conector reto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onector reto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Conector reto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Conector reto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tângulo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ipse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ipse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e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ipse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Conector reto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28E0-4003-4BF1-BA48-3269E0CEBC65}"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onector reto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Conector reto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Conector reto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tângulo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ector reto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E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E3A8-A7E1-4E04-BB70-DA05591C76DF}"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Conector reto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onector reto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Conector reto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Conector reto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tângulo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ector reto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Elipse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9297-BBE3-4349-A0A7-65D4D2D448F0}"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Conector reto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Elipse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onector reto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tângulo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Conector reto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Conector reto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ector reto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9390-AB97-4124-A00D-A4A59FD03144}" type="slidenum">
              <a:rPr b="1" lang="pt-B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http://2.bp.blogspot.com/_y84NMtqsBSw/SrlIVySf6fI/AAAAAAAAA90/whJhdL8zOIA/s320/bullying-739607.png"/>
          <p:cNvPicPr/>
          <p:nvPr/>
        </p:nvPicPr>
        <p:blipFill>
          <a:blip r:embed="rId1"/>
          <a:stretch/>
        </p:blipFill>
        <p:spPr>
          <a:xfrm>
            <a:off x="2000160" y="714240"/>
            <a:ext cx="5081760" cy="4071960"/>
          </a:xfrm>
          <a:prstGeom prst="rect">
            <a:avLst/>
          </a:prstGeom>
          <a:ln w="0">
            <a:noFill/>
          </a:ln>
        </p:spPr>
      </p:pic>
      <p:sp>
        <p:nvSpPr>
          <p:cNvPr id="352" name="PlaceHolder 1"/>
          <p:cNvSpPr>
            <a:spLocks noGrp="1"/>
          </p:cNvSpPr>
          <p:nvPr>
            <p:ph type="title"/>
          </p:nvPr>
        </p:nvSpPr>
        <p:spPr>
          <a:xfrm>
            <a:off x="714240" y="142920"/>
            <a:ext cx="77724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575f6d"/>
                </a:solidFill>
                <a:latin typeface="Century Schoolbook"/>
              </a:rPr>
              <a:t>“</a:t>
            </a:r>
            <a:r>
              <a:rPr b="1" lang="pt-BR" sz="3000" spc="-1" strike="noStrike">
                <a:solidFill>
                  <a:srgbClr val="575f6d"/>
                </a:solidFill>
                <a:latin typeface="Century Schoolbook"/>
              </a:rPr>
              <a:t>DIGA NÃO AO BULLYING </a:t>
            </a:r>
            <a:endParaRPr b="0" lang="en-US" sz="3000" spc="-1" strike="noStrike">
              <a:solidFill>
                <a:srgbClr val="575f6d"/>
              </a:solidFill>
              <a:latin typeface="Century Schoolbook"/>
            </a:endParaRPr>
          </a:p>
        </p:txBody>
      </p:sp>
      <p:sp>
        <p:nvSpPr>
          <p:cNvPr id="353" name="Retângulo 4"/>
          <p:cNvSpPr/>
          <p:nvPr/>
        </p:nvSpPr>
        <p:spPr>
          <a:xfrm>
            <a:off x="1643040" y="4857840"/>
            <a:ext cx="7286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nalise do projeto Escola Viva: A violência se combate com justiça e igualdade social! “Diga não ao Bully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utor: Carlos Roberto das Virge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Analisado por: Moisés Rodrigo Galony dos Sa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575f6d"/>
                </a:solidFill>
                <a:latin typeface="Century Schoolbook"/>
              </a:rPr>
              <a:t>BULE DE XÍCARA NÃO </a:t>
            </a:r>
            <a:r>
              <a:rPr b="1" lang="pt-BR" sz="3000" spc="-1" strike="noStrike">
                <a:solidFill>
                  <a:srgbClr val="575f6d"/>
                </a:solidFill>
                <a:latin typeface="Century Schoolbook"/>
              </a:rPr>
              <a:t>O TERMO É BULLYING</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Para quem não entendeu bullingé o fato de que muitas pessoas sem perceberem ou percebendo são agredidas, principalmente no meio jovem, nas escolas vemos os Bullying na forma de apelidos, xingamentos, palavrões, coisas que as pessoas dizem uma para as outras para denegrir, tentar destruir sua alegria, destruir você, tudo isso é uma agressão e precisa tomar cuidado, muita gente recebe essas agressões e fica quietinha se ferindo até chegar num momento que ela se exploda e ponha tudo para fora.</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14200"/>
            <a:ext cx="7467480" cy="6259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Publico Alvo:</a:t>
            </a:r>
            <a:r>
              <a:rPr b="0" lang="pt-BR" sz="2000" spc="-1" strike="noStrike">
                <a:solidFill>
                  <a:srgbClr val="000000"/>
                </a:solidFill>
                <a:latin typeface="Century Schoolbook"/>
              </a:rPr>
              <a:t> Toda a comunidade Escolar, alunos, professores, pai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Objetivo Geral</a:t>
            </a:r>
            <a:r>
              <a:rPr b="0" lang="pt-BR"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Verificar se existe bullying e qual é a proporção na escola Angelina Jaime Tebet.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Schoolbook"/>
              </a:rPr>
              <a:t>Objetivos Específicos</a:t>
            </a:r>
            <a:r>
              <a:rPr b="0" lang="pt-BR"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Diagnosticar as causas e naturezas do bullying;</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Identificar modos de prevenção desses problema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Verificar a freqüência de bullying, tipos de agressões, incidência, agressores,   vítimas e testemunha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Promover a uma conscientização sobre o problema, minimizando assim o mesmo;</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Estimular os estudantes a fazerem pesquisas sobre o tema na escola;</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Estimular os professores de forma interdisciplinar, para que combata qualquer tipo</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r>
              <a:rPr b="0" lang="pt-BR" sz="2000" spc="-1" strike="noStrike">
                <a:solidFill>
                  <a:srgbClr val="000000"/>
                </a:solidFill>
                <a:latin typeface="Century Schoolbook"/>
              </a:rPr>
              <a:t>de bullying, que por ventura possa existi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8115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575f6d"/>
                </a:solidFill>
                <a:latin typeface="Century Schoolbook"/>
              </a:rPr>
              <a:t>ATÉ NOS PROFESSORES SOFREMOS </a:t>
            </a:r>
            <a:r>
              <a:rPr b="1" lang="pt-BR" sz="3000" spc="-1" strike="noStrike">
                <a:solidFill>
                  <a:srgbClr val="575f6d"/>
                </a:solidFill>
                <a:latin typeface="Century Schoolbook"/>
              </a:rPr>
              <a:t>BULLYING</a:t>
            </a:r>
            <a:r>
              <a:rPr b="0" lang="pt-BR"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Botão de ação: Filme 4"/>
          <p:cNvSpPr/>
          <p:nvPr/>
        </p:nvSpPr>
        <p:spPr>
          <a:xfrm>
            <a:off x="1643040" y="2357280"/>
            <a:ext cx="5429160" cy="2714760"/>
          </a:xfrm>
          <a:custGeom>
            <a:avLst/>
            <a:gdLst>
              <a:gd name="textAreaLeft" fmla="*/ 175680 w 5429160"/>
              <a:gd name="textAreaRight" fmla="*/ 5253480 w 5429160"/>
              <a:gd name="textAreaTop" fmla="*/ 175680 h 2714760"/>
              <a:gd name="textAreaBottom" fmla="*/ 2539080 h 2714760"/>
            </a:gdLst>
            <a:ahLst/>
            <a:rect l="textAreaLeft" t="textAreaTop" r="textAreaRight" b="textAreaBottom"/>
            <a:pathLst>
              <a:path w="43194" h="21600">
                <a:moveTo>
                  <a:pt x="0" y="0"/>
                </a:moveTo>
                <a:lnTo>
                  <a:pt x="43194" y="0"/>
                </a:lnTo>
                <a:lnTo>
                  <a:pt x="43194" y="21600"/>
                </a:lnTo>
                <a:lnTo>
                  <a:pt x="0" y="21600"/>
                </a:lnTo>
                <a:close/>
              </a:path>
              <a:path fill="lightenLess" w="43194" h="21600">
                <a:moveTo>
                  <a:pt x="0" y="0"/>
                </a:moveTo>
                <a:lnTo>
                  <a:pt x="43194" y="0"/>
                </a:lnTo>
                <a:lnTo>
                  <a:pt x="41794" y="1400"/>
                </a:lnTo>
                <a:lnTo>
                  <a:pt x="1400" y="1400"/>
                </a:lnTo>
                <a:close/>
              </a:path>
              <a:path fill="darken" w="43194" h="21600">
                <a:moveTo>
                  <a:pt x="43194" y="0"/>
                </a:moveTo>
                <a:lnTo>
                  <a:pt x="43194" y="21600"/>
                </a:lnTo>
                <a:lnTo>
                  <a:pt x="41794" y="20200"/>
                </a:lnTo>
                <a:lnTo>
                  <a:pt x="41794" y="1400"/>
                </a:lnTo>
                <a:close/>
              </a:path>
              <a:path fill="darkenLess" w="43194" h="21600">
                <a:moveTo>
                  <a:pt x="43194" y="21600"/>
                </a:moveTo>
                <a:lnTo>
                  <a:pt x="0" y="21600"/>
                </a:lnTo>
                <a:lnTo>
                  <a:pt x="1400" y="20200"/>
                </a:lnTo>
                <a:lnTo>
                  <a:pt x="41794" y="20200"/>
                </a:lnTo>
                <a:close/>
              </a:path>
              <a:path fill="lighten" w="43194" h="21600">
                <a:moveTo>
                  <a:pt x="0" y="21600"/>
                </a:moveTo>
                <a:lnTo>
                  <a:pt x="0" y="0"/>
                </a:lnTo>
                <a:lnTo>
                  <a:pt x="1400" y="1400"/>
                </a:lnTo>
                <a:lnTo>
                  <a:pt x="1400" y="20200"/>
                </a:lnTo>
                <a:close/>
              </a:path>
              <a:path fill="darken" w="43194" h="21600">
                <a:moveTo>
                  <a:pt x="14591" y="7301"/>
                </a:moveTo>
                <a:lnTo>
                  <a:pt x="15505" y="7301"/>
                </a:lnTo>
                <a:lnTo>
                  <a:pt x="15888" y="7667"/>
                </a:lnTo>
                <a:lnTo>
                  <a:pt x="25096" y="7667"/>
                </a:lnTo>
                <a:lnTo>
                  <a:pt x="25653" y="8224"/>
                </a:lnTo>
                <a:lnTo>
                  <a:pt x="25653" y="8772"/>
                </a:lnTo>
                <a:lnTo>
                  <a:pt x="27498" y="8772"/>
                </a:lnTo>
                <a:lnTo>
                  <a:pt x="27864" y="8224"/>
                </a:lnTo>
                <a:lnTo>
                  <a:pt x="28604" y="8224"/>
                </a:lnTo>
                <a:lnTo>
                  <a:pt x="28604" y="13376"/>
                </a:lnTo>
                <a:lnTo>
                  <a:pt x="27864" y="13376"/>
                </a:lnTo>
                <a:lnTo>
                  <a:pt x="27498" y="12828"/>
                </a:lnTo>
                <a:lnTo>
                  <a:pt x="25653" y="12828"/>
                </a:lnTo>
                <a:lnTo>
                  <a:pt x="25653" y="14107"/>
                </a:lnTo>
                <a:lnTo>
                  <a:pt x="16070" y="14107"/>
                </a:lnTo>
                <a:lnTo>
                  <a:pt x="16070" y="9877"/>
                </a:lnTo>
                <a:lnTo>
                  <a:pt x="15888" y="9877"/>
                </a:lnTo>
                <a:lnTo>
                  <a:pt x="15505" y="10243"/>
                </a:lnTo>
                <a:lnTo>
                  <a:pt x="14591" y="10243"/>
                </a:lnTo>
                <a:close/>
              </a:path>
            </a:pathLst>
          </a:cu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575f6d"/>
                </a:solidFill>
                <a:latin typeface="Century Schoolbook"/>
              </a:rPr>
              <a:t>QUANDO O APELIDO, OU UMA BRINCADEIRA DE MAU GOSTO CAUSAM TRANSTORNOS, SÃO CLASSIFICADOS COMO BULLYING.</a:t>
            </a:r>
            <a:endParaRPr b="0" lang="en-US" sz="2700" spc="-1" strike="noStrike">
              <a:solidFill>
                <a:srgbClr val="575f6d"/>
              </a:solidFill>
              <a:latin typeface="Century Schoolbook"/>
            </a:endParaRPr>
          </a:p>
        </p:txBody>
      </p:sp>
      <p:pic>
        <p:nvPicPr>
          <p:cNvPr id="361" name="Picture 2" descr="http://4.bp.blogspot.com/_y84NMtqsBSw/SrlIdhjmASI/AAAAAAAAA98/NBZwYYuwmm4/s320/bullying(2).jpg"/>
          <p:cNvPicPr/>
          <p:nvPr/>
        </p:nvPicPr>
        <p:blipFill>
          <a:blip r:embed="rId1"/>
          <a:stretch/>
        </p:blipFill>
        <p:spPr>
          <a:xfrm>
            <a:off x="1500120" y="1928880"/>
            <a:ext cx="4962600" cy="44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400" y="2214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575f6d"/>
                </a:solidFill>
                <a:latin typeface="Century Schoolbook"/>
              </a:rPr>
              <a:t>ULTIMAMENTE SAIU UMA REPORTAGEM SOBRE BULLYING EM QUE O JUIZ CONDENOU DA 7ª SÉRIE A PAGAR R$ 8.000 POR BULLYING, EM UMA PARTE DA REPORTAGEM PODEMOS NOTAR QUE O JUIZ ALEGA QUE: </a:t>
            </a:r>
            <a:br>
              <a:rPr sz="2700"/>
            </a:br>
            <a:r>
              <a:rPr b="0" lang="pt-BR" sz="2700" spc="-1" strike="noStrike">
                <a:solidFill>
                  <a:srgbClr val="575f6d"/>
                </a:solidFill>
                <a:latin typeface="Century Schoolbook"/>
              </a:rPr>
              <a:t> </a:t>
            </a:r>
            <a:br>
              <a:rPr sz="2700"/>
            </a:br>
            <a:endParaRPr b="0" lang="en-US" sz="2700" spc="-1" strike="noStrike">
              <a:solidFill>
                <a:srgbClr val="575f6d"/>
              </a:solidFill>
              <a:latin typeface="Century Schoolbook"/>
            </a:endParaRPr>
          </a:p>
        </p:txBody>
      </p:sp>
      <p:sp>
        <p:nvSpPr>
          <p:cNvPr id="363" name=""/>
          <p:cNvSpPr txBox="1"/>
          <p:nvPr/>
        </p:nvSpPr>
        <p:spPr>
          <a:xfrm>
            <a:off x="457200" y="2428920"/>
            <a:ext cx="8043840" cy="404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entury Schoolbook"/>
              </a:rPr>
              <a:t>O juiz teria dito que os pais do aluno devem ser responsabilizados por não conseguirem impor limites ao filho</a:t>
            </a:r>
            <a:r>
              <a:rPr b="0" lang="pt-BR" sz="2400" spc="-1" strike="noStrike">
                <a:solidFill>
                  <a:srgbClr val="000000"/>
                </a:solidFill>
                <a:latin typeface="Century Schoolbook"/>
              </a:rPr>
              <a:t>, segundo nota do Tribunal. De acordo com informações do TJ-MG, este seria o primeiro processo por bullying julgado por Hilário.( fonte globo.com 19/05/2010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entury Schoolbook"/>
              </a:rPr>
              <a:t>Então devemos conscientizar e impor limites aos alunos sempre trazendo materiais novos como esta reportagem e lembrá-los que o Bullying é cr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22:46:37Z</dcterms:created>
  <dc:creator>Moises</dc:creator>
  <dc:description/>
  <dc:language>en-US</dc:language>
  <cp:lastModifiedBy>Moises</cp:lastModifiedBy>
  <dcterms:modified xsi:type="dcterms:W3CDTF">2010-05-25T22:48:06Z</dcterms:modified>
  <cp:revision>1</cp:revision>
  <dc:subject/>
  <dc:title>“DIGA NÃO AO BULLYING </dc:title>
</cp:coreProperties>
</file>